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FD64D-4195-431D-86A8-2422E8B08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ED33F-B206-4C26-9376-409C9B5AD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22A40-4F56-4973-9C86-82F504E74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4DA67-7843-4057-B1BF-D31D5D352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DDC3B-E2A6-494F-BD1F-3C8FA10B8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4C072-F027-43B7-B60D-2A75A887B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4B9C3-4173-4552-87D6-54784B66D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4B8BD-DF96-4674-A383-EE4A088A9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3216F-9C21-4BC6-A677-DE390418D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3D82F-B5B7-410C-A7D7-A13D3FF2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72413-C01C-4F67-B49C-2056059E7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DE9DE-CBE0-4100-9A47-2DFA2F918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6976-54AB-4D75-9F93-4BA22ADEAB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91404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ductive Validity &amp; Inductive Validit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28600" y="4572000"/>
            <a:ext cx="8610480" cy="12952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qar Hussain – Visiting Faculty &amp; PhD (Scholar)</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artment of Education, The Islamic University of Bahawalpur</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il: gondal369@gmail.co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 in Writing</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se you are considering writing a short story based on the aforementioned book, </a:t>
            </a:r>
            <a:r>
              <a:rPr b="0" i="1" lang="en-US" sz="2400" spc="-1" strike="noStrike">
                <a:solidFill>
                  <a:srgbClr val="000000"/>
                </a:solidFill>
                <a:latin typeface="Calibri"/>
              </a:rPr>
              <a:t>Fahrenheit 451.</a:t>
            </a:r>
            <a:r>
              <a:rPr b="0" lang="en-US" sz="2400" spc="-1" strike="noStrike">
                <a:solidFill>
                  <a:srgbClr val="000000"/>
                </a:solidFill>
                <a:latin typeface="Calibri"/>
              </a:rPr>
              <a:t> You have decided that you wish to write the story from the point of view of a book. You describe the reasons why you feel you and all of your friends, millions of other books, should not be burned, but you should be allowed to exist and even be read.</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onsidering what to use as support for your argument against destruction, you might choose to offer examples of how books have been used for good (premise), such as informing (support 1), teaching (support 2), guiding (support 3), and simply entertaining humans (support 4). Then, based on these values, you would assert that you and all other books are mostly good, and, therefore, you should be preserved (conclus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again, is inductive reasoning because you have begun with specific information, the valuable aspects of books, and drawn a general conclusion, that books should not be burned. The validity is in the fact that your positive points showing the worth of books, of which you have many examples, are true and viable, as far as you know. Your evidence should, therefore, support the idea that books should be saved, even if some of them may one day prove to be harmful to society!</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1920" y="2666520"/>
            <a:ext cx="8991720" cy="205740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s for Patie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28240" y="456840"/>
            <a:ext cx="8381880" cy="5715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ductive Validity</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eductive argument proves its conclusion ONLY if it is both valid and sound.</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idity: An argument is valid when, IF all of it’s premises were true, then the conclusion would also HAVE to be true.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words, a “valid” argument is one where the conclusion necessarily follows from the premises. It is IMPOSSIBLE for the conclusion to be false if the premises are tru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28240" y="228600"/>
            <a:ext cx="8915400" cy="647712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s an example of a valid argumen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ll philosophy courses are courses that are super exciting.</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ll logic courses are philosophy course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erefore, all logic courses are courses that are super exciting.</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1: IF (1) and (2) WERE true, then (3) would also HAVE to be tru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2: Validity says nothing about whether or not any of the premises ARE true. It only says that IF they are true, then the conclusion must follow. So, validity is more about the FORM of an argument, rather than the TRUTH of an argumen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an argument is valid if it has the proper form. An argument can have the right for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be totally false, however. For exampl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Daffy Duck is a duck.</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ll ducks are mammal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erefore, Daffy Duck is a mamm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228600" y="304920"/>
            <a:ext cx="868680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gument just given is valid. But, premise 2 as well as the conclusion are both false. Notice however that, IF the premises WERE true, then the conclusion would also have to be true. This is all that is required for validity. A valid argument need not have true premises or a true conclusion. On the other hand, a sound argument DOES need to have true premises and a true conclus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undness</a:t>
            </a:r>
            <a:r>
              <a:rPr b="0" lang="en-US" sz="2400" spc="-1" strike="noStrike">
                <a:solidFill>
                  <a:srgbClr val="000000"/>
                </a:solidFill>
                <a:latin typeface="Calibri"/>
              </a:rPr>
              <a:t>: An argument is sound if it meets these two criteria: (1) It is valid. (2) Its premises are tru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words, a sound argument has the right form AND it is tru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3: A sound argument will always have a true conclusion. This follows every time these 2 criteria for soundness are me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0" y="0"/>
            <a:ext cx="9144000" cy="6858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you see why this is the case? First, recall that a sound argument is both valid AND has true premises. Now, refer back to the definition of “valid”. For all valid arguments, if their premises are true, then the conclusion MUST also be true. So, all sound arguments have true conclusion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ing back to our argument about Daffy Duck, we can see that it is valid, but not sound. It is not sound because it does not have all true premises. Namely, “All ducks are mammals” is not tru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the argument about Daffy Duck is valid, but NOT sound. Here’s an example of an argument that is valid AND sound:</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ll rabbits are mammal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Bugs Bunny is a rabbi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erefore, Bugs Bunny is a mammal.</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argument, if the premises are true, then the conclusion is necessarily true (so it is valid). AND, as it turns out, the premises ARE true (all rabbits ARE in fact mammals, and Bugs Bunny IS in fact a rabbit)—so the conclusion must also be true (so the argument is soun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151920"/>
            <a:ext cx="9144000" cy="67057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ductive Validity</a:t>
            </a:r>
            <a:endParaRPr b="0" lang="en-US" sz="32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ctive validity means that when one reasons inductively, such reasoning will contain three elements: 1) a premise (the first guiding point), 2) supporting evidence (what makes you believe the premise is true), and 3) a conclusion that is true and viable (valid) AS FAR AS YOU KNOW. The validity of the reasoning is based upon the strength of your supporting evidence, which makes your premise more likely to be true, and hence, your conclusion to be more than likely tru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ctive reasoning is often used in science and philosophy, since it provides evidence for a belief, even though that belief may someday be found to be false (just ask any scientist!). In other words, inductive reasoning is a 'best guess' that is based on the best available evidence. A basic example might look like thi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printed books have a binding. I believe this because every book I have read has had a binding. Therefore, any new book that is made will probably have a binding.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inductively valid because its premise, that printed books all have bindings, is true and viable, as far as the thinker knows based upon her prior experience with books (the supporting evidence). The conclusion, that new printed books will likely have bindings, is also very likely true and viable, but this is not guaranteed. In order to truly grasp this, we must note the difference between inductive and deductive reaso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 of Inductive Validity in Literatur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we read literature, we often come across information that makes us think, 'What if that was true?'. For example, say you are reading </a:t>
            </a:r>
            <a:r>
              <a:rPr b="0" i="1" lang="en-US" sz="2400" spc="-1" strike="noStrike">
                <a:solidFill>
                  <a:srgbClr val="000000"/>
                </a:solidFill>
                <a:latin typeface="Calibri"/>
              </a:rPr>
              <a:t>Fahrenheit 451</a:t>
            </a:r>
            <a:r>
              <a:rPr b="0" lang="en-US" sz="2400" spc="-1" strike="noStrike">
                <a:solidFill>
                  <a:srgbClr val="000000"/>
                </a:solidFill>
                <a:latin typeface="Calibri"/>
              </a:rPr>
              <a:t> by Ray Bradbury, and you begin considering the main premise of the story, that books should not be allowed in society. You might reason through this by considering the good and the bad aspects of literature, such as its entertainment and informative value vs. its potential for causing uprisings or rebellion in society.</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might surmise that, since literature rarely has caused such negative actions (premise 1), it is useful for teaching and informing (premise 2) and is valuable as entertainment (premise 3), that it should not be destroyed (conclusion). The supporting evidence in this case might be examples of how books are valuable for teaching, informing, and entertaining, in addition to the lack of examples of them having caused troubl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question remains, though: is that conclusion a certainty? Can you be absolutely certain that literature will not cause people to revolt or become otherwise troublesome? The answer is no. This is inductive reasoning because you have considered specific information and come to a general conclusion, even though the conclusion may one day prove to be wrong. The validity of the reasoning is in the fact that you have indeed used reasonable premises and consideration to come to the conclusion, regardless of whether it is corr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9:08:17Z</dcterms:created>
  <dc:creator>Anthony J. D'Alesandro</dc:creator>
  <dc:description/>
  <dc:language>en-US</dc:language>
  <cp:lastModifiedBy>Admin</cp:lastModifiedBy>
  <cp:lastPrinted>2019-10-31T18:24:09Z</cp:lastPrinted>
  <dcterms:modified xsi:type="dcterms:W3CDTF">2020-04-03T09:10:09Z</dcterms:modified>
  <cp:revision>107</cp:revision>
  <dc:subject/>
  <dc:title>DEDUCTIVE vs. INDUCTIVE REASONING</dc:title>
</cp:coreProperties>
</file>